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8893-04EC-4294-983B-A927904CF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E39C-2887-4217-8A17-DB60CA431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F804-5DA0-4A27-A74F-51BC09C21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4A37-30BF-4EB0-BCAB-EB75A4833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C177-A878-4CB6-8A82-F277D1465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: Recent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MOD Meeting, June 2006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28320"/>
            <a:ext cx="80010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master organism that anchors the comparis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t of 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gene of master organism directs the align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dblinks are followed to th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links can be bulk loaded (UG II 2.4.10.5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BioCyc uses best bi-directional BLAST hi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(from CMR), stored in a MySQL 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Genes connected by ortholog links have same col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963720"/>
            <a:ext cx="5864400" cy="5360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24360" y="838080"/>
            <a:ext cx="36306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932040"/>
            <a:ext cx="6659640" cy="539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10.0, March 2006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ed support for Gene 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author crediting syste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Author Crediting Syste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74780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Pathways &amp;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ypes of Credit:  Created, Reviewed, Revis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me Pages for Authors and Organiz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ing in Version 10.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verview semantic zoom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 metabolic post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pell checker within editing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ll use dictionary of biomedical ter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sequence retrieval dialo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le filler will work under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e-click pathway output to BioPA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und duplicate che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istency checker available through GU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Overview Semantic Zooming Capabiliti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enlarge overview diagram to sho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rrowheads on reaction arrows (12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bstrate names and pathway labels (2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nzyme, gene names (300%, but more readable at 4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t 400%, you have a diagram suitable for poster print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utomatic poster printing facil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ize title, text, highlighting, etc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 build overview specifically for pos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clude/exclude enzyme names, gene names, EC numb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hange font siz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lter aspect rati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fortunately, overview diagram now takes longer to generate (approx 1 hour vs. several minutes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2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4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915400" cy="530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verview Diagram for Global Querie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(Desktop Application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pecies Comparis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ighlight list of genes or reactions from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Variety of “canned” queri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ee all connections from one or more selected metabolit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PI to highlight based on user compu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save highlights to (&amp; reload from) a human-readable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3767040"/>
            <a:ext cx="705168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mics Viewer for Global Analy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ow gene expression, proteomics, metabol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izable color sche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uperimpose results of multiple datasets on single display, or show as ani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also be used to show results of global computational analyses – anything that assigns a number to a gene, protein, reaction or substrate, or subdivides them into grou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e from Omics Viewer to pathway displays to see omics data on a single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BioCyc Collection of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12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191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43680" y="1781280"/>
            <a:ext cx="3771720" cy="42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GDBs Created by External Use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600+ licensees  --  50 groups applying software to 100+ organisms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Software freely available to academics; Each PGDB owned by its creator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accharomyces cerevisiae, SGD project, Stanford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TAIR, Carnegie Institution of Washington      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Planned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GD  (Candida albicans), Stanford Universit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MGD (Mouse), Jackson Laborator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RGD (Rat), Medical College of Wisconsin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WormBase (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elegan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), Caltech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Large scale us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Medigue, Genoscope, 67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Burger, U Montreal, 20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elected oth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Church, Harvard, Prochlorococcus marinus MED4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Larimer/Uberbacher, ORNL, Shewanella onedens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J. Keasling, UC Berkeley, Desulfovibrio vulgar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ona Brinkman, Simon Fraser Univ, 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Pseudomonas aeruginos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9.5, September 200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interfaces to Oracle and MySQ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 Component Ontology (CCO) introduc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face to Marvin chemical structure edi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ported to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can use other organism PGDBs for pathway predic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port Inference Par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 for detection and merging of duplicate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gnified views of pathways in Web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splay omics data on individual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ice of 3-color display or full spectru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 of pathway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334120" cy="523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mics Viewer – Table View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85960"/>
            <a:ext cx="7434360" cy="54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Comparative Opera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genome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s comparing pathways, reactions, proteins, transcription units, metabolites across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oss-species comparison of individual pathways and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0:40:52Z</dcterms:created>
  <dc:creator>paley</dc:creator>
  <dc:description/>
  <dc:language>en-US</dc:language>
  <cp:lastModifiedBy>paley</cp:lastModifiedBy>
  <cp:lastPrinted>2001-07-11T22:04:59Z</cp:lastPrinted>
  <dcterms:modified xsi:type="dcterms:W3CDTF">2006-06-30T04:24:54Z</dcterms:modified>
  <cp:revision>8</cp:revision>
  <dc:subject/>
  <dc:title>Pathway Tools: Recent Developments and Comparative Operations</dc:title>
</cp:coreProperties>
</file>